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04F77-20BD-47DB-8237-0A70C8EF2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72C45-49D6-4CB1-8D0E-D0F9194EB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3FA29-65B8-4647-BA5D-874CDA704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991FA-701B-4F22-AD7D-3EF9F948C0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39AC3-7655-47A1-BA73-DC61E1074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E36AA-F1FC-4B21-94E9-2E6E8E177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11338-F83D-4A59-85D8-7BB2386B9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70E11-80EC-4779-A5DA-47F1A739E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5DB71-EE55-4CC4-8D15-1E6831D81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0A5BD-7AEC-4022-9BD1-74AB187B1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C7770-9053-4EA5-B178-46F749BB3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0B5D8-19C8-40B7-BC82-1ACDDD5AE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D25D6-06C7-4D3D-91F0-6816AB33E4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SaolVEJEjV4"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Übersetzung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685440" y="1143000"/>
            <a:ext cx="807732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s with our other projects, you need to date each entry and skip lines.  All corrections must be made by crossing out errors.  DO NOT ERASE THEM!  Write both the English and the German translation.  You will receive credit for writing them and maintaining accurate recor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times you do not need to translate word for word in order to get your point across.  Saying:  “I am wearing a dress in red.” gets across the same idea as “I am wearing a red dress.”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this Übersetzung, try to get your point across, even though you may not know how to say every wor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looks good in orange.  I look better in green than in blue.  However,(Insert any name here) looks the best in a red shirt/blouse.  Black doesn’t look good on him/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is “Übersetzung” you need to translate word for word,  not just the “gist”</a:t>
            </a:r>
            <a:endParaRPr b="0" lang="en-US" sz="4400" spc="-1" strike="noStrike">
              <a:solidFill>
                <a:srgbClr val="000000"/>
              </a:solidFill>
              <a:latin typeface="Calibri"/>
            </a:endParaRPr>
          </a:p>
        </p:txBody>
      </p:sp>
      <p:sp>
        <p:nvSpPr>
          <p:cNvPr id="45" name=""/>
          <p:cNvSpPr txBox="1"/>
          <p:nvPr/>
        </p:nvSpPr>
        <p:spPr>
          <a:xfrm>
            <a:off x="60948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eautiful girl is wearing the red 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roken pencil is under the desk of the intelligent stu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the stupidest ans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 this “Übersetzung” you need to translate word for word,  not just the “gist”</a:t>
            </a:r>
            <a:endParaRPr b="0" lang="en-US" sz="4400" spc="-1" strike="noStrike">
              <a:solidFill>
                <a:srgbClr val="000000"/>
              </a:solidFill>
              <a:latin typeface="Calibri"/>
            </a:endParaRPr>
          </a:p>
        </p:txBody>
      </p:sp>
      <p:sp>
        <p:nvSpPr>
          <p:cNvPr id="47" name=""/>
          <p:cNvSpPr txBox="1"/>
          <p:nvPr/>
        </p:nvSpPr>
        <p:spPr>
          <a:xfrm>
            <a:off x="609480" y="2332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like his blue swe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the sweater) looks good or suits his blue ey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sees the girl in the red dr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 flips out, because </a:t>
            </a:r>
            <a:r>
              <a:rPr b="0" lang="en-US" sz="3200" spc="-1" strike="noStrike" u="sng">
                <a:solidFill>
                  <a:srgbClr val="0000ff"/>
                </a:solidFill>
                <a:uFillTx/>
                <a:latin typeface="Calibri"/>
                <a:hlinkClick r:id="rId1"/>
              </a:rPr>
              <a:t>Conchita Wurst </a:t>
            </a:r>
            <a:r>
              <a:rPr b="0" lang="en-US" sz="3200" spc="-1" strike="noStrike">
                <a:solidFill>
                  <a:srgbClr val="000000"/>
                </a:solidFill>
                <a:latin typeface="Calibri"/>
              </a:rPr>
              <a:t>won Eurovis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5"/>
          <p:cNvSpPr/>
          <p:nvPr/>
        </p:nvSpPr>
        <p:spPr>
          <a:xfrm>
            <a:off x="0" y="457200"/>
            <a:ext cx="91440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almost (fast) the end.  When it is over (fertig), I want to have a party. First, I have to take (“to write” in German) tests. If (when) I write poorly, I am not allowed to have a part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7T18:28:50Z</dcterms:created>
  <dc:creator>tmsadmin</dc:creator>
  <dc:description/>
  <dc:language>en-US</dc:language>
  <cp:lastModifiedBy>tmsadmin</cp:lastModifiedBy>
  <dcterms:modified xsi:type="dcterms:W3CDTF">2014-05-27T19:35:15Z</dcterms:modified>
  <cp:revision>68</cp:revision>
  <dc:subject/>
  <dc:title>Übersetzungen</dc:title>
</cp:coreProperties>
</file>